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B1B7-5567-4B9E-872D-06C82DB4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DD6E-CBEC-4831-9EC6-27532B6B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6772-CD88-4CCC-B610-F57B89FB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A3B-6D03-4C42-8190-C7BD37FC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F28-4F8B-4447-8F51-03135584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C773-5F6E-417F-B50E-B34BA261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1C5C-C8DF-4E8C-B765-90D1F3BB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CD31-F43C-48AD-A76C-4334A3FE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FD8F-B65B-439B-BE6B-476CAE38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C6DC-D6C1-4729-9B40-9C560DEB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08E-2612-4CAC-A5A4-94347647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312-DCAC-4263-BA3F-4871E30F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9AF0-E0F8-42ED-8956-16A693C3B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76 Pán na Sione vlád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Pán na Sione vlád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ech jasá celý svet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On zve nás k trónu mil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chce zbaviť všetkých b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slávu jemu znej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j naše piesne chvá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d ním sa všetci pokloň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n Pán je, slávy Kr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Pán je svetov Tvorc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riadi dráhy hviez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mocnou rukou chc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j naše kroky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stoj vždy v jeho služb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ním zostaň v každý č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k piesňam nebies zástupo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dnes svoj pripoj hlas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vo vesmíre cel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a jemu vyrovná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nás bázeň svätú vzbudzu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á láska úchvatn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m v Synovi dal spás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k miloval Boh svet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nej radostná zvesť záchrany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ez Krista spásy niet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29:58Z</dcterms:modified>
  <cp:revision>23</cp:revision>
  <dc:subject/>
  <dc:title>Je veľký náš Pán, on slávy je Kráľ Nech do všetkých strán  spev vrúcnych znie chvál.</dc:title>
</cp:coreProperties>
</file>